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3A8E2-3816-4F34-8703-5483FCB0113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42B21-339B-4F69-9356-BD9D3F49D80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6708F-0E89-4EE9-96F0-CB1793800C9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F9CDD-E5A0-4C49-B613-1B37409CD69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AB4CA-675C-40FE-A940-6F7EF10260A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CD531-A8D4-4536-B5D3-7591863848F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B001F-B76B-476C-8BF5-DA0BC8E328C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76F28-3BDF-4E68-A3B3-B943E95DABF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D09D4-2603-4B22-A370-B6902945B61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99980-D0D0-4B53-B9B8-D565F49BD1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6A511-2BE9-41E3-ACAB-FEB9800C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5957A-8E4F-43EA-9E63-512B3162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52CEB-1C9A-42F6-BDFD-FD3EDE4FA3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862ED-7C7E-47DA-A145-F9D02355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0D20-84E8-4C58-A50B-B52E9587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C3F88-3DF2-4813-8930-EA786F83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088BA-6B9C-450C-8742-064F3394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BDC06-50C7-49AD-8BE3-47A4ECB8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EA4B1-361B-4FF6-B7F2-FAF1AFF1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C199D-D1EA-4A15-9FA5-DA671975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16FA4-8214-4EBE-995A-C7F94241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0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4F354B-8BC3-4A5A-B69F-7AA29228A630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ALGUNOS CASOS DE DIMORFISMO SEX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lgunos casos de dimorfismo sex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934920" y="1347840"/>
            <a:ext cx="727236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isten especies de animales donde ambos sexos sólo se diferencian por sus órganos sexuales. Se dice que carecen de dimorfismo sex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s de estos animales son los conejos, los gatos,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chanquetes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93492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sin dimorfismo sex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3060720" y="3189240"/>
            <a:ext cx="2762280" cy="264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512640" y="3168720"/>
            <a:ext cx="2762280" cy="2643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1511280" y="574344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068720" y="578628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4"/>
          <a:stretch/>
        </p:blipFill>
        <p:spPr>
          <a:xfrm>
            <a:off x="5975280" y="3686040"/>
            <a:ext cx="2541600" cy="1067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5"/>
          <a:stretch/>
        </p:blipFill>
        <p:spPr>
          <a:xfrm>
            <a:off x="5940360" y="5003640"/>
            <a:ext cx="2519280" cy="1260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4"/>
          <p:cNvSpPr/>
          <p:nvPr/>
        </p:nvSpPr>
        <p:spPr>
          <a:xfrm>
            <a:off x="6335640" y="4599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hanquete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335640" y="60022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hanquete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lgunos casos de dimorfismo sex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00000" y="1276200"/>
            <a:ext cx="727236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otras especies, ambos sexos poseen diferencias en su aspecto externo aparte de sus órganos sexuales; se dice que son especies con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dimorfismo sex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s de especies con dimorfismo sexual so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lagartijas, los leones, muchas aves, los seres humano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imorfismo sex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1079640" y="3600360"/>
            <a:ext cx="3960720" cy="2336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3"/>
          <a:stretch/>
        </p:blipFill>
        <p:spPr>
          <a:xfrm>
            <a:off x="5219640" y="3600360"/>
            <a:ext cx="3075120" cy="2113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720720" y="3600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erceta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419640" y="3240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erceta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6300720" y="3240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gartija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7272360" y="532764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gartija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lgunos casos de dimorfismo sex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imorfismo sex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16 Imagen" descr="mirlo_bd.jpg"/>
          <p:cNvPicPr/>
          <p:nvPr/>
        </p:nvPicPr>
        <p:blipFill>
          <a:blip r:embed="rId2"/>
          <a:stretch/>
        </p:blipFill>
        <p:spPr>
          <a:xfrm>
            <a:off x="4859280" y="3573360"/>
            <a:ext cx="4033800" cy="2990880"/>
          </a:xfrm>
          <a:prstGeom prst="rect">
            <a:avLst/>
          </a:prstGeom>
          <a:ln w="0">
            <a:noFill/>
          </a:ln>
        </p:spPr>
      </p:pic>
      <p:pic>
        <p:nvPicPr>
          <p:cNvPr id="97" name="14 Imagen" descr="faisan_bd.jpg"/>
          <p:cNvPicPr/>
          <p:nvPr/>
        </p:nvPicPr>
        <p:blipFill>
          <a:blip r:embed="rId3"/>
          <a:stretch/>
        </p:blipFill>
        <p:spPr>
          <a:xfrm>
            <a:off x="3995640" y="549360"/>
            <a:ext cx="4875480" cy="2752560"/>
          </a:xfrm>
          <a:prstGeom prst="rect">
            <a:avLst/>
          </a:prstGeom>
          <a:ln w="0">
            <a:noFill/>
          </a:ln>
        </p:spPr>
      </p:pic>
      <p:pic>
        <p:nvPicPr>
          <p:cNvPr id="98" name="15 Imagen" descr="ciervo_bd.jpg"/>
          <p:cNvPicPr/>
          <p:nvPr/>
        </p:nvPicPr>
        <p:blipFill>
          <a:blip r:embed="rId4"/>
          <a:stretch/>
        </p:blipFill>
        <p:spPr>
          <a:xfrm>
            <a:off x="324000" y="2565360"/>
            <a:ext cx="4444920" cy="34066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611280" y="249228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iervo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843280" y="285264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iervo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508720" y="90792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aisán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771640" y="1413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aisán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734364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irlo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5364000" y="3429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irlo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22:49Z</dcterms:modified>
  <cp:revision>46</cp:revision>
  <dc:subject/>
  <dc:title>Diapositiva 1</dc:title>
</cp:coreProperties>
</file>